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E139-0309-4FDA-B55C-018987C933A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DD83-E910-466B-A0A0-0D07E36B40D0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8C11-9401-4939-A52A-DCBEC1D3ABEF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C2A8-6442-4823-A6BA-950D03B5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F6D4-151E-4412-93AB-75FA1E04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322-F231-46D7-A857-0CC0F30B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16E-8D3F-4025-BE49-0D9B0DD9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F33B-9A5E-4286-907E-8895C3FE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D756-CCF1-47A7-B9A5-0E097C83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395B-97BD-4728-87A1-DD820E76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82EF-D3FF-4C98-A3CD-290BE199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C8FA-2913-4778-8530-19C1667F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106D-7472-4C9C-965F-A8A94045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D70B-293C-4FD7-807D-28A1F6F0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2E8-8F63-44A2-81C8-7C524924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DE80-F50B-48C9-93B8-F395FB59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8E0B-3A5F-4111-A3EE-3435D94C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8F07-0A51-4C03-8CF1-073360FB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7AF6-59AB-4F18-8894-D2D0983E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7F1C-4BD0-4ECD-9D24-AC31B46A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B87B-0391-47AF-B6B7-4ACFE7B4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C598-30AD-4CF4-91C6-8AD80BAA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C4A8-B436-490C-A0DE-C572498A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713-695F-47BB-B4B2-3B057932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472-D810-406F-9C9F-FEE2E804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DC2-42B5-42ED-8118-9275DE59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F84-07A4-4161-AEE5-FBC69FFD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7ACF-282B-467C-B31A-D9A1F11167AA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2AF8-BD21-4395-AFFA-AC417B54F7E9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6E52-6881-4BB3-AD78-29DE01C06322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B8EC-6E11-4443-B7D0-E0EC6A1AA99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EC4F-5B89-4942-8E25-B3362AEEDAC7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D819-C711-40E5-832D-2F7C4BF18B48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BFAE-229C-4E5D-9507-407CB2AFB1D4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4A62-BD02-49EF-882F-8CF4F67C4B48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284040" y="15159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1"/>
          <a:stretch/>
        </p:blipFill>
        <p:spPr>
          <a:xfrm>
            <a:off x="4113360" y="4162320"/>
            <a:ext cx="4159080" cy="282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395280" y="1790640"/>
            <a:ext cx="34560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B890-4212-4D12-8652-8CCADDD5C89C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EADE-FFF3-4AD4-BE58-FF4A6DAADC9E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 5.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65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5: 588 v vrednosti 26,6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D6B6-4823-4EF7-8B21-FC7FC559290B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A9D0-AA25-4DD0-A58A-A6CDB6B72E71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6,94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0,00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5 na dan 22. 5. 2015 = 132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4E7B-5378-4B59-A773-C3E5AFBBD115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4BD2-850E-41A1-B34F-D8D14CBE458A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62200" y="19288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Finančni tokovi PO – EK 2015-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11280" y="2720880"/>
            <a:ext cx="75549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9064-4074-4E43-901D-61F320A7684B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F405-F414-48F2-A2E7-8C9366C819E2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88040" y="1353960"/>
            <a:ext cx="74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Obravnava nepravilnosti na PO – knjiga dolžni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71640" y="2505240"/>
          <a:ext cx="6095880" cy="10364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jatve do 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rte terjat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9,93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,5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Mateja Mahkovec</cp:lastModifiedBy>
  <cp:lastPrinted>2012-06-04T14:32:47Z</cp:lastPrinted>
  <dcterms:modified xsi:type="dcterms:W3CDTF">2015-05-22T08:56:17Z</dcterms:modified>
  <cp:revision>171</cp:revision>
  <dc:subject/>
  <dc:title>Naslov</dc:title>
</cp:coreProperties>
</file>